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C86-ED2D-4B83-B177-AAA976A7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53C-6E63-47F8-898A-CC46625E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E48-1F22-43D8-BED3-0B8AB215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468-E658-4D43-B247-4507223D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D0A-2FA8-47AE-8AC3-5D305441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8C8-0684-41D8-9121-35AE923D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49D-7E16-4852-A7CA-C1F55918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CBD-971E-4280-8EB9-7A81A684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3CA-9AD2-4022-9EC4-E9F3A18D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41A-2711-4AC2-B6FC-24B8F695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6EC-1680-40D7-AD7F-C1BB90E5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3C5-6A31-4C49-9C46-16899158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BD9-7239-4DC3-875D-BABB5686F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1010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74613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Экстримизм и патриотизм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120460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120458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716078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9715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flowers-pic330-330x220-17297"/>
          <p:cNvPicPr/>
          <p:nvPr/>
        </p:nvPicPr>
        <p:blipFill>
          <a:blip r:embed="rId1"/>
          <a:stretch/>
        </p:blipFill>
        <p:spPr>
          <a:xfrm>
            <a:off x="39600" y="39600"/>
            <a:ext cx="9104400" cy="68184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Теракт в Волгограде 21.10.2013: обнародовано видео с видеорегистратора (ВИДЕ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250920" y="404640"/>
            <a:ext cx="653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акт в Волгограде 21 октября - дело рук смерт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808adf103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Террористка-смертница взорвала автобус в Волгоград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120482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120480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2120478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21204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2120468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2:44:18Z</dcterms:created>
  <dc:creator>Русский</dc:creator>
  <dc:description/>
  <dc:language>en-US</dc:language>
  <cp:lastModifiedBy>sch10-17</cp:lastModifiedBy>
  <dcterms:modified xsi:type="dcterms:W3CDTF">2025-09-15T04:28:02Z</dcterms:modified>
  <cp:revision>7</cp:revision>
  <dc:subject/>
  <dc:title>Слайд 1</dc:title>
</cp:coreProperties>
</file>